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B70-3EF6-4067-ACCA-BFA15E67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522-4017-485A-BFD9-1ED37DC93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B776-8D37-44CA-AC02-2F6629453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9904-4B6F-47BC-A3E5-6EC7C10A3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3E01-70C8-42EA-A8B9-891A1380D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1450-CA14-4B6A-9044-6123C445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E71-8044-4DDC-91D2-5B61A8CF3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53E8-9F80-4CEF-B087-F0D073FE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944A-F7F7-4232-858C-8881AA361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EF90-BE32-4195-917D-862916147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30E5-6F66-4B6A-B7A4-616F75D99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E057-AC07-47A2-B155-B6BD4FED6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FA0D-247D-4967-82FA-1EF0A1083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22E6-8139-441C-B8B9-4F8994E10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B882-2554-436C-9D4D-72FDDCFBE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6513-25B0-4A30-ABC7-EE32067E3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0885-1C6C-4434-83DF-C520D98A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103A-EBDB-4B08-8CD3-95D1F6DC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CBF1-3B65-47B0-9DB7-5E5E7F078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B2E-5E19-487A-B04C-7F393F9A2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C487-8CA4-44B0-8384-CB2052B1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FE0C-DFFC-45A9-B148-9C047FD3E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1B4-F1B3-44D6-AC2E-CBBC4D185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1A4D-B202-4BE8-81E3-EAF11960F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1C9B-C664-4A92-80C4-DF34E88CF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8D1D-9E34-404C-BBEF-C549F537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0B7F-0F8D-405E-A07B-39AF17A47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0124-2FFC-4D6C-8DF1-C9F046E7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ABEF-0513-44F8-8E7E-02C15324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6BD0-C139-4E16-B78B-9B7A3B41D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DEE3-E478-4135-90E9-7B1FE9AB9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8BF-DC4F-4B8D-AA9F-D18340FF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952F-7935-4787-AB10-B1A4FED9D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3D52-2190-4D24-9945-F6714EB0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F66-A1E0-4AF2-AADA-C48C3550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EF2-6E40-4A5A-BEFF-D58E2825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45C-5DB9-4616-BA86-AF6A97F6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80F-6071-48CF-94FC-B042E0A3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879-3778-4C0A-A83D-806C30EC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F28-E424-4676-8246-EC992728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1FE-3771-4B5F-92D9-2A3E7DFB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EFD-8BE1-4AE2-84B5-2CBE2822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36E-8808-42DB-B7CD-C6E8F97C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547-AD21-4232-B01E-8CE534B5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71D-6562-4FE4-9994-029F588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748-EE2D-4D46-94F0-989DFBD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EFA0-D045-4E3D-9E70-88264013AE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Arial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775960" y="162864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УТРИТИВНИ СУПЛЕМ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069000" y="2133720"/>
            <a:ext cx="3181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моду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наставна ј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8" descr=""/>
          <p:cNvPicPr/>
          <p:nvPr/>
        </p:nvPicPr>
        <p:blipFill>
          <a:blip r:embed="rId2"/>
          <a:stretch/>
        </p:blipFill>
        <p:spPr>
          <a:xfrm>
            <a:off x="1871640" y="2998800"/>
            <a:ext cx="567540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4444920" y="60930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оц. др Јована Јоксимовић Ј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79280" y="134136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Специфичности дејства </a:t>
            </a:r>
            <a:r>
              <a:rPr b="0" lang="en-US" sz="2000" spc="-1" strike="noStrike" u="sng">
                <a:solidFill>
                  <a:srgbClr val="4d33ff"/>
                </a:solidFill>
                <a:uFillTx/>
                <a:latin typeface="MyriadPro-Black"/>
                <a:ea typeface="Arial"/>
              </a:rPr>
              <a:t>химотрип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68360" y="213372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ндопептидаза која хидролизује централне пептидне везе код којих карбонилна група потиче од ароматичних аминокиселина (фенилаланин, триптофан, тироз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кретује се у инактивној форми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имотрипсин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тимални рН деловањ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ктивира га трип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Резултат слика за endopeptidase"/>
          <p:cNvPicPr/>
          <p:nvPr/>
        </p:nvPicPr>
        <p:blipFill>
          <a:blip r:embed="rId2"/>
          <a:stretch/>
        </p:blipFill>
        <p:spPr>
          <a:xfrm>
            <a:off x="2556000" y="4437000"/>
            <a:ext cx="388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79280" y="134136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Специфичности дејства </a:t>
            </a:r>
            <a:r>
              <a:rPr b="0" lang="en-US" sz="2000" spc="-1" strike="noStrike" u="sng">
                <a:solidFill>
                  <a:srgbClr val="4d33ff"/>
                </a:solidFill>
                <a:uFillTx/>
                <a:latin typeface="MyriadPro-Black"/>
                <a:ea typeface="Arial"/>
              </a:rPr>
              <a:t>ела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68360" y="213372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ндопептидаза која хидролизује централне пептидне везе код којих карбонилна група потиче од хидрофобних аминокиселина (глицин, аланин, сер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кретује се у инактивној форми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еласт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тимални рН деловањ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ктивира га трип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Резултат слика за endopeptidase"/>
          <p:cNvPicPr/>
          <p:nvPr/>
        </p:nvPicPr>
        <p:blipFill>
          <a:blip r:embed="rId2"/>
          <a:stretch/>
        </p:blipFill>
        <p:spPr>
          <a:xfrm>
            <a:off x="2556000" y="4437000"/>
            <a:ext cx="388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069280" y="1197000"/>
            <a:ext cx="52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3ff"/>
                </a:solidFill>
                <a:latin typeface="MyriadPro-Black"/>
                <a:ea typeface="Arial"/>
              </a:rPr>
              <a:t>Варење протеина у танком цре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3ff"/>
                </a:solidFill>
                <a:latin typeface="MyriadPro-Black"/>
                <a:ea typeface="Arial"/>
              </a:rPr>
              <a:t>*егзопептидазе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13372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гзопептидазе раскидају пептидне везе терминалних аминокиселина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злажу пептиде у мономе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карбоксипептидазе (А и 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аминопептид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арбоксипептидазе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идролизују аминокиселине са карбоксилног кр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ипептидног л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минопептидазе - хидролизују аминокиселине са амино кр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ипептидног л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Резултат слика за exopeptidase"/>
          <p:cNvPicPr/>
          <p:nvPr/>
        </p:nvPicPr>
        <p:blipFill>
          <a:blip r:embed="rId2"/>
          <a:stretch/>
        </p:blipFill>
        <p:spPr>
          <a:xfrm>
            <a:off x="2916360" y="4365720"/>
            <a:ext cx="38098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79280" y="134136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Специфичности дејства </a:t>
            </a:r>
            <a:r>
              <a:rPr b="0" lang="en-US" sz="2000" spc="-1" strike="noStrike" u="sng">
                <a:solidFill>
                  <a:srgbClr val="4d33ff"/>
                </a:solidFill>
                <a:uFillTx/>
                <a:latin typeface="MyriadPro-Black"/>
                <a:ea typeface="Arial"/>
              </a:rPr>
              <a:t>карбоксипептид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68360" y="213372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гзоопептидаза која хидролизује терминалне (периферне) пептидне везе са карбоксилног краја полипептидног ла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кретује се у инактивној форми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карбоксипептид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тимални рН деловањ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ктивира га трип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Резултат слика за endopeptidase"/>
          <p:cNvPicPr/>
          <p:nvPr/>
        </p:nvPicPr>
        <p:blipFill>
          <a:blip r:embed="rId2"/>
          <a:stretch/>
        </p:blipFill>
        <p:spPr>
          <a:xfrm>
            <a:off x="2556000" y="4437000"/>
            <a:ext cx="388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42360" y="1197000"/>
            <a:ext cx="86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3ff"/>
                </a:solidFill>
                <a:latin typeface="MyriadPro-Black"/>
                <a:ea typeface="Arial"/>
              </a:rPr>
              <a:t>Улога ентерокиназа у активацији панкреасних проте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468360" y="2133720"/>
            <a:ext cx="849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вођење инактивних форми панкреасних ензима у активне облике дешава се под дејств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нтерокиназ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хидролаза из четкастог епите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нтерокиназа садржи 41% полисахарид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сок удео шећера у укупном саставу спречава да је разложе протеолитички ензими пре него што оствари своју ул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трипсиноген се претвара у активан ензим –трипсин под дејством ентерокиназе када се панкреасни с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ђе у дуоден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трипсин претвара химотрипсиногене у химотрипсине, као и друге проензиме у активне протеолитичке ензи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ђе, трипсин може да активира и трипсиноген, па када се једном формира трипсин настаје аутокаталитичка ланчана ре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ентерокиназа се јавља као урођени поремећај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зазива протеинску малнутрицију (потхрањено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999000" y="1268280"/>
            <a:ext cx="744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3ff"/>
                </a:solidFill>
                <a:latin typeface="MyriadPro-Black"/>
                <a:ea typeface="Arial"/>
              </a:rPr>
              <a:t>Схематски приказ активације панкреасних проте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Vladimir Zivkovic\Desktop\GANONG\SLIKE\XXVI POGLAVLjE\PNG\Gan024_Fig_26-03.png"/>
          <p:cNvPicPr/>
          <p:nvPr/>
        </p:nvPicPr>
        <p:blipFill>
          <a:blip r:embed="rId2"/>
          <a:stretch/>
        </p:blipFill>
        <p:spPr>
          <a:xfrm>
            <a:off x="395280" y="2276640"/>
            <a:ext cx="4824360" cy="424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4716360" y="386064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који спречава активациј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анкреасних протеаза пре него што се нађу у лумену дуоден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да се панкреасни сок нађе у лумену дуоденума, трипсиноген долази у контакт са ентерокина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апикалној површини ентероц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след тога долази до цепања трипсиногена до трипсина, који потом активира додатне молеку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рипсиногена до трипсина, као и остале протеолитичке ензи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983160" y="1197000"/>
            <a:ext cx="73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Хормонска регулација секреције протеолитичких енз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24000" y="213372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астрин (Г ћелије антралног дела желуца) – стимулација секреције пеп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цистокинин (CCK)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ћелиј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њег дела танког црева) – стимулација секреције панкресних проте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екретин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ћелиј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њег дела танког црева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но - слабо уитче на секрецију панкреасних ен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ректно – преко CCK појачава ензимску панкреасну секре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матостатин – инхибише секрецију панкреасних ен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564920" y="1197000"/>
            <a:ext cx="62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Улога мембранских и интрацелуларних енз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ентероцита у варењу 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24000" y="2133720"/>
            <a:ext cx="8640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њи део олигопептида се разгради под дејством панкреасних протеаза до аминокиселина (у лумену цре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ћи део олигопептида се разлаже на аминокиселине тек на површини ћелијске мембране четкастог пок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мбрански ензими микровила ентероци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минопептид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рбоксипептид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ндопептид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пептид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и дипептиди и трипептиди се активно транспортују у ћелије слуз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рева, где се разлажу под дејством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нтрацелуларн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птид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стале аминокиселине потом прелазе у циркул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*** коначна дигестија аминокиселина се одвија на 3 мест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 лумену црева, на четкастом покрову, у цитоплазми ћелија цревне слузн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86280" y="1197000"/>
            <a:ext cx="49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уминална дигестија пептида помоћ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анкреасних ендопептидаза и егзопептид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24000" y="21337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Vladimir Zivkovic\Desktop\GANONG\SLIKE\XXVI POGLAVLjE\PNG\Gan024_Fig_26-04.png"/>
          <p:cNvPicPr/>
          <p:nvPr/>
        </p:nvPicPr>
        <p:blipFill>
          <a:blip r:embed="rId2"/>
          <a:stretch/>
        </p:blipFill>
        <p:spPr>
          <a:xfrm>
            <a:off x="1403280" y="2276640"/>
            <a:ext cx="6337440" cy="32446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1476360" y="587700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Појединач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минокиселине су представљене као квадратић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870560" y="1413000"/>
            <a:ext cx="60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 хранљивих ма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55640" y="2349360"/>
            <a:ext cx="777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(деф.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је процес преузимања коначних производа варења хранљивих материја од стране ћелија слузнице цре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одразумева транспорт завршних молекула варења (моносахарида, масних киселина и аминокиселина) у ентероците танког ц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Резултат слика за varenje hrane"/>
          <p:cNvPicPr/>
          <p:nvPr/>
        </p:nvPicPr>
        <p:blipFill>
          <a:blip r:embed="rId2"/>
          <a:stretch/>
        </p:blipFill>
        <p:spPr>
          <a:xfrm>
            <a:off x="2556000" y="4292640"/>
            <a:ext cx="3809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113920" y="119700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арење хранљивих ма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68360" y="1844640"/>
            <a:ext cx="79912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ар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(деф.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сложен процес физичке и хемијске обраде унете хране у дигестивном тракту који има за циљ да унети садржај (храну) припреми и презентира у облику који је одговарајући за апсорп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Резултат слика за varenje hrane"/>
          <p:cNvPicPr/>
          <p:nvPr/>
        </p:nvPicPr>
        <p:blipFill>
          <a:blip r:embed="rId2"/>
          <a:stretch/>
        </p:blipFill>
        <p:spPr>
          <a:xfrm>
            <a:off x="4932360" y="447660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468360" y="306864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арењ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- разградња макромолекула хране (угљених хидрата, масти и протеина) помоћу механичких и биохемијских процеса до основних градивних јединица  (глукозе, масних киселина и аминокиселина) које ћелије могу даље да кори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9528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арење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и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њихова ензимска хидролиза до амин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580040" y="1413000"/>
            <a:ext cx="68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ости апсорпције амино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1280" y="2205000"/>
            <a:ext cx="748980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екло протеина у ГИТ-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0% х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5% дигестивни сок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5% десквамиране ћелије цревне му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 аминокиселина се одвија веома брзо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уоденуму и јејун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им апсорпције аминокиселина је највећи у горњим деловима танког црева (дуоденум и јејуну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им апсорпције у илеуму је м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ко 2–5% протеина се не свари и не апсорбује у танком ц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вај проценат протеина се свари уз помоћ бактеријске флоре дебелог ц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 највећи део протеина који се нађе у столици није пореклом 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хране, већ од цревних бактерија и остатака цревних ћел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922400" y="1628640"/>
            <a:ext cx="59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МЕХАНИЗМИ АПСОРПЦИЈЕ АМИНО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24000" y="2781360"/>
            <a:ext cx="864072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ва механизма апсорпције аминокисел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ни систем протеина нос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татионски транспортни систем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лутамил циклу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203920" y="1197000"/>
            <a:ext cx="49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Транспортни систем протеина нос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*опште одлике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24000" y="213372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и систем за апсорпцију амин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ктиван процес (захтева енергију - АТ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оји 7 до сада идентификованих транспортера аминокиселина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(у зависности од хемијске врсте аминокиселине-базне, кисе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утралне ис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ваки трансопртер преноси одређену хемијску врсту амино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а типа протеинских носач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носачи који су зависни од везивања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5 носач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носачи који су независни од везивања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2 носач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независни транспортни системи омогућавају улаз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минокиселина олакшаном дифузи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532240" y="1197000"/>
            <a:ext cx="43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4d33ff"/>
                </a:solidFill>
                <a:latin typeface="MyriadPro-Black"/>
                <a:ea typeface="Arial"/>
              </a:rPr>
              <a:t>+</a:t>
            </a: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 зависни транспортни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324000" y="2133720"/>
            <a:ext cx="864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тип транспортних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ктиван процес (захтева енергију - АТ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ваки протеински носач има 2 везујућа места: једно за АК а друго за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дразумева ко-транспорт аминокиселине и Na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из лумена у ентер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бсорбована аминокиселина одлази у портну циркулациј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злази из ћелије у замену за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ум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198440" y="1197000"/>
            <a:ext cx="696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Схематски приказ Na</a:t>
            </a:r>
            <a:r>
              <a:rPr b="0" lang="en-US" sz="2000" spc="-1" strike="noStrike" baseline="30000">
                <a:solidFill>
                  <a:srgbClr val="4d33ff"/>
                </a:solidFill>
                <a:latin typeface="MyriadPro-Black"/>
                <a:ea typeface="Arial"/>
              </a:rPr>
              <a:t>+</a:t>
            </a: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 зависног транспортног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http://osp.mans.edu.eg/medbiochem_mi/Cources/Biochemistry/2nd_year_medicine/Protein_metabolism/files/figures/l1_4b.gif"/>
          <p:cNvPicPr/>
          <p:nvPr/>
        </p:nvPicPr>
        <p:blipFill>
          <a:blip r:embed="rId2"/>
          <a:srcRect l="0" t="0" r="0" b="13843"/>
          <a:stretch/>
        </p:blipFill>
        <p:spPr>
          <a:xfrm>
            <a:off x="1908000" y="1989000"/>
            <a:ext cx="525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6560" y="1197000"/>
            <a:ext cx="69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Глутатионски транспортни систем (γ</a:t>
            </a: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-г</a:t>
            </a:r>
            <a:r>
              <a:rPr b="0" lang="ru-RU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лутамил циклу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133720"/>
            <a:ext cx="88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* глутатион - неесенцијална аминокиселина (интраћелијски антиоксидан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вај транспортни систем користи глутатион за транспорт аминокиселина у ентероц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ктиван процес (захтева енергију – АТ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за апсорпцију једне аминокиселине је потребно 3 молекула АТП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sr-RS" sz="1800" spc="-1" strike="noStrike" u="sng">
                <a:solidFill>
                  <a:srgbClr val="000000"/>
                </a:solidFill>
                <a:uFillTx/>
                <a:latin typeface="Arial"/>
              </a:rPr>
              <a:t>глутатио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реагује са аминокиселином посредством глутамил транспептид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 формира комплекс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γ-</a:t>
            </a:r>
            <a:r>
              <a:rPr b="0" lang="sr-RS" sz="1800" spc="-1" strike="noStrike" u="sng">
                <a:solidFill>
                  <a:srgbClr val="000000"/>
                </a:solidFill>
                <a:uFillTx/>
                <a:latin typeface="Arial"/>
              </a:rPr>
              <a:t>глутамил-амин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RS" sz="1800" spc="-1" strike="noStrike" u="sng">
                <a:solidFill>
                  <a:srgbClr val="000000"/>
                </a:solidFill>
                <a:uFillTx/>
                <a:latin typeface="Arial"/>
              </a:rPr>
              <a:t>комплекс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γ-</a:t>
            </a:r>
            <a:r>
              <a:rPr b="0" lang="sr-RS" sz="1800" spc="-1" strike="noStrike" u="sng">
                <a:solidFill>
                  <a:srgbClr val="000000"/>
                </a:solidFill>
                <a:uFillTx/>
                <a:latin typeface="Arial"/>
              </a:rPr>
              <a:t>глутамил-аминокисели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 затим ослобађа аминокиселину у цитоплазму ентероцита заједно са </a:t>
            </a:r>
            <a:r>
              <a:rPr b="0" lang="sr-RS" sz="1800" spc="-1" strike="noStrike" u="sng">
                <a:solidFill>
                  <a:srgbClr val="000000"/>
                </a:solidFill>
                <a:uFillTx/>
                <a:latin typeface="Arial"/>
              </a:rPr>
              <a:t>5-оксопрол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 u="sng">
                <a:solidFill>
                  <a:srgbClr val="000000"/>
                </a:solidFill>
                <a:uFillTx/>
                <a:latin typeface="Arial"/>
              </a:rPr>
              <a:t>5-оксопрол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се користи за поновну синтезу глутатиона који ће почети нови цикл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вим системом се најчешће преносе цистеин, метионин и глут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086120" y="1197000"/>
            <a:ext cx="719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Схематски приказ </a:t>
            </a:r>
            <a:r>
              <a:rPr b="0" lang="ru-RU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глутатионског транспортног 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osp.mans.edu.eg/medbiochem_mi/Cources/Biochemistry/2nd_year_medicine/Protein_metabolism/files/figures/l1_5b.gif"/>
          <p:cNvPicPr/>
          <p:nvPr/>
        </p:nvPicPr>
        <p:blipFill>
          <a:blip r:embed="rId2"/>
          <a:stretch/>
        </p:blipFill>
        <p:spPr>
          <a:xfrm>
            <a:off x="1547640" y="1844640"/>
            <a:ext cx="57340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101240" y="1197000"/>
            <a:ext cx="71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МЕХАНИЗМИ АПСОРПЦИЈЕ ДИПЕПТИДА И ТРИПЕПТ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Users\Vladimir Zivkovic\Desktop\GANONG\SLIKE\XXVI POGLAVLjE\PNG\Gan024_Fig_26-05.png"/>
          <p:cNvPicPr/>
          <p:nvPr/>
        </p:nvPicPr>
        <p:blipFill>
          <a:blip r:embed="rId2"/>
          <a:stretch/>
        </p:blipFill>
        <p:spPr>
          <a:xfrm>
            <a:off x="4427640" y="3789360"/>
            <a:ext cx="3774960" cy="25988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395280" y="198900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сварени дипептиди и трипептиди се транспортују користећ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 активни транспор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 аминокиселина котранспорт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PepT1 (пептидн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ер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 већих пептида је веома сла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60600" y="1341360"/>
            <a:ext cx="80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Фактори који утичу на функцију транспортера амино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5280" y="22766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ктивност мембранских и интрацелуларних пептидаза ентероцита се повећава након хируршког одстрањивања дела ц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ктивност мембранских и интрацелуларних пептидаза ентероцита се повећава након дуготрајног глад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рођени поремећај транспорте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 транспорт неутралних аминокиселина (Хартнапова боле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ођени поремећа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е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 транспорт базни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минокиселина (цистинур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84560" y="1484280"/>
            <a:ext cx="83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ости апсорпције несварених протеина код одрасл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68360" y="2421000"/>
            <a:ext cx="813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од одраслих може доћи д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е мањих количина несварених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ани протеини у циркулацији доводе до стварања антител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станка реакције антиген-анти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овни улазак истог протеина у циркулацију може изазвати алергијске ре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 несварених протеина може бити узрок алергијских симптома који се јављају после уношења одређене х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изазивачи алергија су раков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кушци, рибе, махунасто поврће, кравље млеко и беланце јај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подаци о генетској предиспозицији за осетљивост према одређеној врсти ове х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6" descr=""/>
          <p:cNvPicPr/>
          <p:nvPr/>
        </p:nvPicPr>
        <p:blipFill>
          <a:blip r:embed="rId2"/>
          <a:stretch/>
        </p:blipFill>
        <p:spPr>
          <a:xfrm>
            <a:off x="1620720" y="2419200"/>
            <a:ext cx="6121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17240" y="1484280"/>
            <a:ext cx="8687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ости апсорпције несварених протеина код одојчади и дец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68360" y="2276640"/>
            <a:ext cx="8136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д одојчади се апсорбује и умерена количина несварених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инска антитела у мајчином млеку углавном су секреторни имуноглобулини (I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њихова продукција се повећава у касној трудноћ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креторни имуноглобулини пролазе кроз мамални епител процесом трансцитозе (ендоцитоза и егзоцитоза) и улазећи у циркулацију одојчета омогућавају му пасивну отпорност према инфекциј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ја несварених протеина нагло се смањуј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а престанком дој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сталост појаве алергије на храну код деце износи око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2280600" y="1268280"/>
            <a:ext cx="5142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ПОЛУЖИВОТИ ПРОТЕИНА У ОРГАНИЗМ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68360" y="1844640"/>
            <a:ext cx="8136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ТЕИНИ КОЈИ СЕ БРЗО ОБНАВЉ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УЛАТОРНИ ЕНЗИМИ (мину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ЈЕТРЕ И ЦРЕВА (око 10 да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ПЛАЗМЕ (око 15 да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ТЕИНИ КОЈИ СЕ СПОРО ОБНАВЉ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ХЕМОГЛОБИН (око 120 да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МИШИЋА (око 180 да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ВЕЗИВНОГ ТКИВА – КОЛАГЕН (годи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АЈНИ ПРОТЕ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 ОЧНОГ СОЧ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градација протеина се одвија у лизозомима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цитопла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573000" y="1341360"/>
            <a:ext cx="2292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АЗОТНИ БАЛАН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68360" y="227664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арактерис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астој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је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зо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 u="sng">
                <a:solidFill>
                  <a:srgbClr val="000000"/>
                </a:solidFill>
                <a:uFillTx/>
                <a:latin typeface="Arial"/>
              </a:rPr>
              <a:t>Азотни баланс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азлика између унете и екскретоване количине аз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нос азота храном: доминанто путем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кскреција азота путем урина: доминантно путем уреје (главни производ катаболизма проте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Здр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авнотеж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зо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а протеини унес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хр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дмир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треб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егати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зо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биланс у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злуч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зо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несеног (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рганиз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но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овољ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отеина – организам губи на тежи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058200" y="1341360"/>
            <a:ext cx="3847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НЕГАТИВАН АЗОТНИ БАЛАН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50920" y="19162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ан баланс азота: екскреција &gt; у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о уношење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гладовање, болести дигестивног трак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есенцијелних амин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брзан катаболизам ткивних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ебрилна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тања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е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раума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р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ћано губљење протеина из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лактација уз неадекватну исхрану, албуминуриј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protein-losing ентеропатије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4211640" cy="33130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654520" y="4797360"/>
            <a:ext cx="77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н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7308720" y="443700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кскре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2999160" y="1341360"/>
            <a:ext cx="3888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АЗОТНИ БАЛАН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68360" y="2276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аланс азота: унос &gt; екскре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ериод 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поравак од стања 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им балансом аз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321080" cy="33843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7"/>
          <p:cNvSpPr/>
          <p:nvPr/>
        </p:nvSpPr>
        <p:spPr>
          <a:xfrm>
            <a:off x="5295600" y="4437000"/>
            <a:ext cx="77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н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6875640" y="4941720"/>
            <a:ext cx="144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кскре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288960" y="1125360"/>
            <a:ext cx="28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арење 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опште одлике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95280" y="335772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тралуминал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дигестијом у желуцу и танком цреву, дејством ензима који се излучују у лумен ових органа (из желуца и панкре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вршинс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мембранском дигестијом, дејством ензима локализованих у четкастом покрову ентеро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трацелулар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дигестијом – дејством унутарћелијских ензима епителних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84360" y="22114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Хидролитичка разградња протеина одвија се удруженим дејством следећих проц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244240" y="134136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  <a:ea typeface="Arial"/>
              </a:rPr>
              <a:t>Варење протеина у желу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468360" y="2133720"/>
            <a:ext cx="84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арење протеина почиње у желуцу (под утицај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пс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псин хидролитички раскида пептидне везе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псин се секретује у облику инактивних прекурсора (проензима) и активира у гастроинтестиналном тра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курсори пепсина се називај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псиногени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активира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елудачна киселин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а типа пепсиног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псиноген I (делови желуца који продукују кисели садржа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псиноген II (и у пилорусном делу желу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а секреција киселог садржаја је повезана са количином створеног пепсиногена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963720" y="1484280"/>
            <a:ext cx="71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Механизам разградње протеина под утицајем пеп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826920" y="234936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псин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дролизуј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езе између ароматичних (фенилаланин и тирозин) и суседних амин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стају полипептиди веома различитих 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тимални pH за деловање пепсина ј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,6–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јство пепсина се прекида када се садржај из желуца помеша са алкалним панкреасним соком у дуоденуму и јејун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pH вредност цревног садржаја на нивоу дуоденалног булбуса износи 3,0–4,0 али се нагло повећава - у преосталом делу дуоденума износи око 6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532520" y="1052640"/>
            <a:ext cx="63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Схематски приказ механизма деловања пеп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Резултат слика за pepsin mechanism of action"/>
          <p:cNvPicPr/>
          <p:nvPr/>
        </p:nvPicPr>
        <p:blipFill>
          <a:blip r:embed="rId2"/>
          <a:srcRect l="0" t="20001" r="0" b="10001"/>
          <a:stretch/>
        </p:blipFill>
        <p:spPr>
          <a:xfrm>
            <a:off x="324000" y="1557360"/>
            <a:ext cx="840096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Резултат слика за pepsin mechanism of action"/>
          <p:cNvPicPr/>
          <p:nvPr/>
        </p:nvPicPr>
        <p:blipFill>
          <a:blip r:embed="rId3"/>
          <a:stretch/>
        </p:blipFill>
        <p:spPr>
          <a:xfrm>
            <a:off x="2322360" y="4578480"/>
            <a:ext cx="52977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141280" y="1125360"/>
            <a:ext cx="52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3ff"/>
                </a:solidFill>
                <a:latin typeface="MyriadPro-Black"/>
                <a:ea typeface="Arial"/>
              </a:rPr>
              <a:t>Варење протеина у танком цре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3ff"/>
                </a:solidFill>
                <a:latin typeface="MyriadPro-Black"/>
                <a:ea typeface="Arial"/>
              </a:rPr>
              <a:t>*ендопептидазе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68360" y="2133720"/>
            <a:ext cx="849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танком цреву се полипетиди даље варе под утицајем протеолитичких ензима које стварају панкреас (и цревна слузница): ендопептидазе и егзопептид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ндопептидазе (протеолитичке пептидазе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ип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мотрип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ласт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термоли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ндопептидаз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лажу унутрашње (централне) пептидне везе у молекулима пеп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ндопептидазе раскидају пептидне везе нетерминалних аминокиселина (за разлику од егзопептидаза које прекидају пептидне везе терминалних аминокисе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з тог разлога ендопептидазе не могу да пресеку пептиде у мономере, док ексопептидазе мог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79280" y="134136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33ff"/>
                </a:solidFill>
                <a:latin typeface="MyriadPro-Black"/>
                <a:ea typeface="Arial"/>
              </a:rPr>
              <a:t>Специфичности дејства </a:t>
            </a:r>
            <a:r>
              <a:rPr b="0" lang="en-US" sz="2000" spc="-1" strike="noStrike" u="sng">
                <a:solidFill>
                  <a:srgbClr val="4d33ff"/>
                </a:solidFill>
                <a:uFillTx/>
                <a:latin typeface="MyriadPro-Black"/>
                <a:ea typeface="Arial"/>
              </a:rPr>
              <a:t>трип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68360" y="2133720"/>
            <a:ext cx="84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ндопептидаза која хидролизује централне пептидне везе код којих карбонилна група потиче од базних аминокиселина (лизина, аргинина, хистид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кретује се у инактивној форми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ипсин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тимални рН деловањ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ктивирају га ентерокиназе и аутоактив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Резултат слика за endopeptidase"/>
          <p:cNvPicPr/>
          <p:nvPr/>
        </p:nvPicPr>
        <p:blipFill>
          <a:blip r:embed="rId2"/>
          <a:stretch/>
        </p:blipFill>
        <p:spPr>
          <a:xfrm>
            <a:off x="2556000" y="4437000"/>
            <a:ext cx="388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Jovana Joksimovic</cp:lastModifiedBy>
  <dcterms:modified xsi:type="dcterms:W3CDTF">2022-02-22T15:32:25Z</dcterms:modified>
  <cp:revision>133</cp:revision>
  <dc:subject/>
  <dc:title>ИНТЕГРИСАНЕ АКАДЕМСКЕ СТУДИЈЕ ФАРМАЦИЈЕ  Г04 – Медицинска хемија и дизајн лекова 2</dc:title>
</cp:coreProperties>
</file>