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577-A322-41B2-8EC0-6254AE53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FCD-CE90-4E17-B45C-F3B2430D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D58-87EC-46E2-97DB-C654EEE7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805-C886-47BB-B240-1F224A01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0B9-F48E-47CF-B23D-5FE442A9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FA3-6371-4164-A50D-BC11AA09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B4C-BEF3-41A3-B9F8-B05989D4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06D-12C3-4FDA-8659-A66207E4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F08-D433-4BFF-846F-AF842A38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980-A42D-466A-A702-37937A68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A58-D7AE-4A4A-87C6-DC6CB067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0BF-07A4-4CC7-8BFE-0D2E71C1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2B35-7F82-440A-AE99-97C230281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775960" y="162864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УТРИТИВНИ СУПЛЕМ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889800" y="2165400"/>
            <a:ext cx="1540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ЖБА БРОЈ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547560" y="32925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Малапсорптивн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тешких облика синдрома кратког црева може бити неопхода парентерална исхрана пацј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ерује се да би трансплатација танког црева ускоро могла да постане рутинска интервенци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платација доноси дугорочне проблеме, што подразумева и поуздано обезбеђивање донорског тки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Уводна разматр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логе танког црева у варењу и апсорпцији хране су од виталног значаја за људски организ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гестивни и апсорптивни капацитет танког црева је већи него што је потребно за нормалну функцију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томска резер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Уводна разматр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тклањањем малих делова јејунума и илеума неће произвести тешке симптоме и доћи ће до компензаторне хипертрофије и хиперплазије преостале мукоз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пак, када се отклони или премости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p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више од 50 % танког црев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кратког цр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апсорпција хранљивих материја је толико компромитована да се тешко спречава настанак потхрањености и губитак унетог садржај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апсорпи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секција терминалног илеум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секција терминалног илеума спречава реапсорпцију жучних киселина, што затим доводи до смањења апсорпције м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времено долази до настанка пролива, јер жучне киселине које доспевају у дебело црево појачавају секрецију хлор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секција или премошћење танког црева може довести до: хипокалцијемије, артритиса, могуће масне инфилтрације јетре и касније циро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руга обоље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844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друга обиљења могу смањити апсорпцију у танком цреву (и када нема скраћивања његове дужин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а повезаних поремећаја се понекад назив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лапсорптивни синдр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ако је група ових  поремећаја променљива (зависно од узрока), уобичајене последице су недовољна апсорпција аминокиселина, видно смањење телесне масе и (понекад) хипопротеинемија са развојем еде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ањује се и апсорпција угљених хидрата и м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бог поремећаја апсорпције масти нема ни довољне апсорпције липосолубилних витамина (А,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 Е, 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Целијачна бол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ан од најинтересантнијих разлога за настанак малапсорпционог синдрома је аутоимуна целијакија (целијачна болес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 настајекод генетски  предиспонираних особа ( имају антиген HLA-DQ2 ИЛИ DQ8 на MCH класе I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тих особа глутен и слични протеини изазивају одговарајући имунски одговор цревних Т лимфоцита, који оштећују цревни епител, што доводи до губитка ресица и изравњавања мукозе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Целијачна бол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менута група протеина се налази у пшеници, ражи, јечму и (мањој мери) овсу, али је нема у пиринчу и кукуруз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ад се житарице које садрже глутен искључе из исхране, функција црева се генерално нормализуј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и приступ проблему малапсорпције зависи од узорка који се налази у основ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 целијачној болести функција слузнице се нормализује строгим избегавањем намирница које садрже глутен (мада то није лако постићи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лив који прати малапсорпцију жучних киселина може се лечити резином (cholestyramine), препаратом који везује жучне киселине у лумен црева и спречава појачану секрецију у дебелом цре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пацјената који имају дефицијенцију липосолубилних витамина може се вршити супституција њиховим хидросолубилним облиц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Vladimir Zivkovic</cp:lastModifiedBy>
  <dcterms:modified xsi:type="dcterms:W3CDTF">2017-02-17T10:21:01Z</dcterms:modified>
  <cp:revision>224</cp:revision>
  <dc:subject/>
  <dc:title>Slide 1</dc:title>
</cp:coreProperties>
</file>